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4A2-85BF-453E-8EC0-CD2CB508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93E-F692-498D-83F6-F39E6E91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A19-92E6-4158-BBA7-0211B1F2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6C1-5BF0-4AF4-8002-D05D4753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61F-F6D5-49C3-86BA-37C4B9C3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8C8-3245-4371-9F66-A42D27FA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24D-906F-4ED7-B6D2-F492C0D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FC1-924D-4827-A7A2-B7FE524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BEC-FD97-43C6-9C7E-16809DC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9A2-8E93-4079-8DCA-7ACDB90C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7E5-20C2-4AC2-96E9-4BCD3E2A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379-9CBC-4BA3-BD3C-9708D873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763-6C56-4AD3-9877-869A9DF00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Выбрать верные утверж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елая планария – свободноживущее живот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 планарии есть пищеварительная, дыхательная, выделительная и нервная системы орган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переваренные остатки пищи у планарии выбрасываются через р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рвная система у планарии узлового тип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ланарии – раздельнополые животны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У плоских червей нет полости тел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У планарии хорошо выражена регенерац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плодотворение у планарии нару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тику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16000" y="155736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тикула (от лат. «кутикула» – кожица) – плотное неклеточное образование на поверхности клеток эпителиальной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щитная и опор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Мои документы\Наглядность к уроку\Биология 7 Сонин\Царство Животные\Подцарство Многоклеточные\Тип Круглые черви (Нематоды)\строение\кутикула.jpg"/>
          <p:cNvPicPr/>
          <p:nvPr/>
        </p:nvPicPr>
        <p:blipFill>
          <a:blip r:embed="rId1"/>
          <a:stretch/>
        </p:blipFill>
        <p:spPr>
          <a:xfrm>
            <a:off x="304920" y="1557360"/>
            <a:ext cx="4038480" cy="30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жно-мускульный ме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утикулой расположе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л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ьных мыш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вижение за счет боковых изгибов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полость тела, заполненная жидк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жидкости: опорная, транспорт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D:\Мои документы\Наглядность к уроку\Биология 7 Сонин\Царство Животные\Подцарство Многоклеточные\Тип Круглые черви (Нематоды)\строение\строение кожно-мускульного мешка.jpg"/>
          <p:cNvPicPr/>
          <p:nvPr/>
        </p:nvPicPr>
        <p:blipFill>
          <a:blip r:embed="rId1"/>
          <a:srcRect l="0" t="9449" r="7559" b="0"/>
          <a:stretch/>
        </p:blipFill>
        <p:spPr>
          <a:xfrm>
            <a:off x="179280" y="1619280"/>
            <a:ext cx="4122720" cy="3714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Общ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26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Имеют двустороннюю симмет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Трехсл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Тело длинное, уп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В поперечном разрезе тело круг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ри движении могут лишь изгиб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Тело покрыто кожно-муску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ш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Внутри – полость т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енная жидк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оявляется анальное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раздельнопо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рвная система и 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88000" y="1773000"/>
            <a:ext cx="389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глоточное нервное кольцо и шесть нервных стволов, соединенных многочисленными перемы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чувств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язание (бугорки или щетинки), химическое чувство, зрение (примитивные глазки – пигментные пят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Мои документы\Наглядность к уроку\Биология 7 Сонин\Царство Животные\Подцарство Многоклеточные\Тип Круглые черви (Нематоды)\строение\нервная система нематоды.jpg"/>
          <p:cNvPicPr/>
          <p:nvPr/>
        </p:nvPicPr>
        <p:blipFill>
          <a:blip r:embed="rId1"/>
          <a:stretch/>
        </p:blipFill>
        <p:spPr>
          <a:xfrm>
            <a:off x="304920" y="1844640"/>
            <a:ext cx="4114800" cy="419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6000" y="5732280"/>
            <a:ext cx="838188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– глотка – кишка (прямая трубка) – анальное отверс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Мои документы\Наглядность к уроку\Биология 7 Сонин\Царство Животные\Подцарство Многоклеточные\Тип Круглые черви (Нематоды)\строение\пищеварительная система нематод.jpg"/>
          <p:cNvPicPr/>
          <p:nvPr/>
        </p:nvPicPr>
        <p:blipFill>
          <a:blip r:embed="rId1"/>
          <a:srcRect l="0" t="17717" r="0" b="23622"/>
          <a:stretch/>
        </p:blipFill>
        <p:spPr>
          <a:xfrm>
            <a:off x="304920" y="1219320"/>
            <a:ext cx="8486640" cy="4297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D:\Мои документы\Наглядность к уроку\Биология 7 Сонин\Царство Животные\Подцарство Многоклеточные\Тип Круглые черви (Нематоды)\строение\пища нематод.jpg"/>
          <p:cNvPicPr/>
          <p:nvPr/>
        </p:nvPicPr>
        <p:blipFill>
          <a:blip r:embed="rId2"/>
          <a:stretch/>
        </p:blipFill>
        <p:spPr>
          <a:xfrm>
            <a:off x="228600" y="1143000"/>
            <a:ext cx="8686800" cy="548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5360" y="60213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клеточные кожные жел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Мои документы\Наглядность к уроку\Биология 7 Сонин\Царство Животные\Подцарство Многоклеточные\Тип Круглые черви (Нематоды)\строение\выделительная система нематод.jpg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788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ьнопо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овой диморфиз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амцы и самки обладают четкими внешними различ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адывают яйца, есть живородящи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D:\Мои документы\Наглядность к уроку\Биология 7 Сонин\Царство Животные\Подцарство Многоклеточные\Тип Круглые черви (Нематоды)\строение\половая система.jpg"/>
          <p:cNvPicPr/>
          <p:nvPr/>
        </p:nvPicPr>
        <p:blipFill>
          <a:blip r:embed="rId1"/>
          <a:stretch/>
        </p:blipFill>
        <p:spPr>
          <a:xfrm>
            <a:off x="228600" y="1600200"/>
            <a:ext cx="4368960" cy="40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ви – паразиты человека. Человеческая аскари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788000" y="1628640"/>
            <a:ext cx="39700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самок – 20-40 см, самцов – 15-2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зит тонкого кишечник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нчательный и промежуточный хозяин –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левание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скарид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аскариды.jpg"/>
          <p:cNvPicPr/>
          <p:nvPr/>
        </p:nvPicPr>
        <p:blipFill>
          <a:blip r:embed="rId1"/>
          <a:srcRect l="8504" t="13858" r="8504" b="17008"/>
          <a:stretch/>
        </p:blipFill>
        <p:spPr>
          <a:xfrm>
            <a:off x="228600" y="1628640"/>
            <a:ext cx="4268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кл развития аскар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Наглядность к уроку\электронный атлас Зоология\черви\Worms02_15.gif"/>
          <p:cNvPicPr/>
          <p:nvPr/>
        </p:nvPicPr>
        <p:blipFill>
          <a:blip r:embed="rId2"/>
          <a:stretch/>
        </p:blipFill>
        <p:spPr>
          <a:xfrm>
            <a:off x="228600" y="1219320"/>
            <a:ext cx="8610480" cy="5333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Выбрать правильный от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Взрослый печеночный сосальщик паразитирует в организ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алого прудов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лкого и крупного рогатого ск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хищных ры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волков и соб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межу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зяевами назы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мы, в которых жив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зрослые параз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зрослые паразиты размнож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охраняются я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развиваются лич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Мои документы\Наглядность к уроку\Биология 7 Сонин\Царство Животные\Подцарство Многоклеточные\Тип Круглые черви (Нематоды)\гигиенические меры, предупреждающие заражение аскаридозом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т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88000" y="1523880"/>
            <a:ext cx="3898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самок до 12 мм, самцов – до 5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ет в толстой кишке человека и некоторых обезь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левание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ероби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острицы.jpg"/>
          <p:cNvPicPr/>
          <p:nvPr/>
        </p:nvPicPr>
        <p:blipFill>
          <a:blip r:embed="rId1"/>
          <a:srcRect l="13701" t="20157" r="20787" b="8189"/>
          <a:stretch/>
        </p:blipFill>
        <p:spPr>
          <a:xfrm>
            <a:off x="228600" y="1523880"/>
            <a:ext cx="427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ихине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16360" y="16146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амцов 1,6мм, самок – 4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ет в тонком кишечник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жуточный хозяин – сви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инки в известковых капсулах оседают в мыш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е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хинел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трихинелла.jpg"/>
          <p:cNvPicPr/>
          <p:nvPr/>
        </p:nvPicPr>
        <p:blipFill>
          <a:blip r:embed="rId1"/>
          <a:stretch/>
        </p:blipFill>
        <p:spPr>
          <a:xfrm>
            <a:off x="304920" y="1612800"/>
            <a:ext cx="4267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0120" y="792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иш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4840" y="501984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шта, или медицинский стру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а 120см, толщина – 1-1,7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итает в лимфатических сосудах, лимфатических железах и подкожной клетчатке, преимущественно ног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ежуточный хозяин – цикло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болевание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ракункул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ришта 1.jpg"/>
          <p:cNvPicPr/>
          <p:nvPr/>
        </p:nvPicPr>
        <p:blipFill>
          <a:blip r:embed="rId1"/>
          <a:stretch/>
        </p:blipFill>
        <p:spPr>
          <a:xfrm>
            <a:off x="628560" y="981000"/>
            <a:ext cx="7920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15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тчатка (филляр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65280" y="4885920"/>
            <a:ext cx="822960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9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лимфатических железах и лимфатических сосудах человека, вызывая их закупорку и воспалительное утолщение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очный хозяин – ком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 слоновь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филярия.jpg"/>
          <p:cNvPicPr/>
          <p:nvPr/>
        </p:nvPicPr>
        <p:blipFill>
          <a:blip r:embed="rId1"/>
          <a:stretch/>
        </p:blipFill>
        <p:spPr>
          <a:xfrm>
            <a:off x="684360" y="981000"/>
            <a:ext cx="7775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ласогл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59280" y="1528560"/>
            <a:ext cx="396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амок 3,5-5см, самцов – 3-4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ет в толстом кишечнике человека, «прошивает» его стенку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итается к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происходит при употреблении воды из открытых водо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Мои документы\Наглядность к уроку\Биология 7 Сонин\Царство Животные\Подцарство Многоклеточные\Тип Круглые черви (Нематоды)\Круглые черви, многообразие\власоглав.jpg"/>
          <p:cNvPicPr/>
          <p:nvPr/>
        </p:nvPicPr>
        <p:blipFill>
          <a:blip r:embed="rId1"/>
          <a:srcRect l="28818" t="15118" r="28818" b="5039"/>
          <a:stretch/>
        </p:blipFill>
        <p:spPr>
          <a:xfrm>
            <a:off x="252360" y="1557360"/>
            <a:ext cx="4114800" cy="472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круглые черви параз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ружи нематоды покрыты кутику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зитические нематоды не имеют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 кожно-мускульного мешка у нематод – обширная полость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нематоды имеют кровеносн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228600" y="0"/>
            <a:ext cx="86137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аскариды есть специальные органы при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ы чувств у круглых червей развиты сл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еварительная система есть у всех нема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карида человеческая паразитирует в кишечнике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нематоды – паразиты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ми хозяевами называют организмы, в которых жив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живут взрослые параз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азвиваются лич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личинки пит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живут только са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омежуточ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зяи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ночного сосальщ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рупный рогатый с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ал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олк или соба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вцы и 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 Личинки бычьего цепня жив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 пресных водо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 теле свиней и 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 кишечнике и мышцах крупного рогатого ск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в кишечнике собак и ко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зитические пло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ви откладывают яи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о много раз больше, чем свободноживу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только же, сколько свободноживу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намного меньше, чем свободноживу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1122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Тема: Круглые черви и прогрес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74"/>
          <p:cNvPicPr/>
          <p:nvPr/>
        </p:nvPicPr>
        <p:blipFill>
          <a:blip r:embed="rId1"/>
          <a:stretch/>
        </p:blipFill>
        <p:spPr>
          <a:xfrm>
            <a:off x="4572000" y="765000"/>
            <a:ext cx="380988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 Круглые черви (немато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тыс. видов (? – 1 млн. ви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атода – от греч. «немас» – 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живущие (обитатели морей, пресных водоемов, листового опада и почвы) и параз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ждение: от плоских чер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Мои документы\Наглядность к уроку\уроки КМ 7\картинки\круглые черви\круглый червь 1.jpg"/>
          <p:cNvPicPr/>
          <p:nvPr/>
        </p:nvPicPr>
        <p:blipFill>
          <a:blip r:embed="rId1"/>
          <a:srcRect l="9576" t="13400" r="9576" b="14431"/>
          <a:stretch/>
        </p:blipFill>
        <p:spPr>
          <a:xfrm>
            <a:off x="284040" y="1773360"/>
            <a:ext cx="426744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еш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16000" y="14130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ела: от 0,05 мм до нескольких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еретенообразной формы, несегментированно, суживающееся к переднему и заднему концам, круглое в попереч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Мои документы\Наглядность к уроку\открытая биология\животные\Круглые черви, Скребни, Циклиофоры\круглые черви.jpg"/>
          <p:cNvPicPr/>
          <p:nvPr/>
        </p:nvPicPr>
        <p:blipFill>
          <a:blip r:embed="rId1"/>
          <a:srcRect l="38964" t="0" r="41865" b="0"/>
          <a:stretch/>
        </p:blipFill>
        <p:spPr>
          <a:xfrm>
            <a:off x="428760" y="1413000"/>
            <a:ext cx="3886200" cy="4494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Мои документы\Наглядность к уроку\открытая биология\животные\Круглые черви, Скребни, Циклиофоры\строение аскариды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658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11280" y="184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2"/>
                </a:solidFill>
                <a:uFillTx/>
                <a:latin typeface="Arial"/>
              </a:rPr>
              <a:t>Круглого черв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867280" y="177336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2"/>
                </a:solidFill>
                <a:uFillTx/>
                <a:latin typeface="Arial"/>
              </a:rPr>
              <a:t>плоского черв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760" y="2852640"/>
            <a:ext cx="420048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3624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0:36:28Z</dcterms:created>
  <dc:creator>Васильев П.А.</dc:creator>
  <dc:description/>
  <dc:language>en-US</dc:language>
  <cp:lastModifiedBy>Юлия</cp:lastModifiedBy>
  <dcterms:modified xsi:type="dcterms:W3CDTF">2014-11-11T12:31:00Z</dcterms:modified>
  <cp:revision>25</cp:revision>
  <dc:subject/>
  <dc:title>Инфекционные заболевания</dc:title>
</cp:coreProperties>
</file>